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907588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83A-41AA-4DF0-AF67-FBC7CC4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249-46E9-4860-9E8A-7D76B28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0F4-5C1C-4B59-9E21-89B5F29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0EF-7F7B-4FF7-A65A-9E8EAAC8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F7A3-5BA2-492B-99EF-8E6ECB16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FBBE-5938-49CC-96B0-4C7DFA5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A8FE-CB4A-4E31-B371-827A917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4662-493E-461E-8BC3-29DFBEEF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F54D-5381-4A3E-BA87-A83A19DE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85B8-9C21-4923-9B3C-3830ADF5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7F5E-4ADE-4BEE-9D34-670CA16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72C-1E70-4444-B8A1-4DF2A6D1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47BB-099A-4E1B-B2D9-9812D97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69E3-1A46-4EC6-ACE2-BCA4797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F70-94ED-49B2-822E-FFFDF4E2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3307-1520-423D-A62F-C776678D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7AA2-914E-4064-B5D2-605B47CD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2F67-D09F-4AB0-A862-3AB7E52B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6B02-5840-427D-9C8B-E6139B03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4500-2733-40F0-9DC1-D3B2256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EFB2-4785-473E-B524-5B48C261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255C-3745-42AA-9B65-CF5E47F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E0F-42EC-49D6-9420-A0665AF9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FC53-36F4-415B-831B-5F3031BF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1801-0E91-48E5-941B-D726E615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F15E-B97D-485D-92E3-3DA1DDA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70CD-5248-401D-8EFF-1BFCDFE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5DDF-E3A3-443D-913B-55B8030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F1DA-F4A8-4A2E-B5C0-63A2EB5C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7D19-C12C-4656-B726-452EFAE9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91BF-7953-4172-B293-2552A46F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9139-E037-40C7-9AE0-E44DE140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690A-BC19-4C0A-9C74-E2AE3510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7E4-7482-4580-9FB9-B953A634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1E988-9176-4A65-BDA1-479AC843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561D-42FE-42E8-983B-7DBEFA9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DFB9-430A-4B7E-B3D4-C1A7C36E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70A1-2639-4336-A78D-F844868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9323-90B1-4B73-AC46-69B1A38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A6C0-DD89-41C4-8740-6F76D71A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0017-F75E-4750-BA53-EBAA52F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65A7-FA28-467A-9564-6606C4EA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62BE-ECB0-4023-8657-40C79C82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4CDAE-0EA7-4C93-A6CB-1D328B1A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C10-72BC-4D35-B49C-8BE0EBC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A220-D8D6-4E0A-B337-EE80E274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D863-F677-4AA8-91F5-72ADA1B4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1610-BAA8-40DB-BAFB-A3F6AF6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E843-D18D-4641-934F-AA04201C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74CD-06D7-4A90-9692-6B87DFB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1074-1B60-48BB-A424-35D98CB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867D-F4B8-41A2-B9D3-2920BD3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C7A07-CC65-44F0-90EC-BB07F077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191D-8329-4291-A5C7-A2D431D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770B-313A-47BD-B79C-8B599E23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A66-D7D7-4419-946E-440C13B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EE7E-F2D2-4C94-945F-11CA59CB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322A-7FD7-4CD5-A169-397EBC58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E935-C5B9-4466-AB86-1700E8DF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1548-F4AC-4FF4-9EB4-B4B3EDF9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79CB-E486-4648-AC99-7968257C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80458-47FE-42B6-861B-2F11B63E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9FF2D-A209-4AE6-9517-46BFCB86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027C-3DCE-4BA6-AA99-C4CE91FE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89C8-E569-4E27-839C-5BDEA32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29AC6-4201-4F0A-8FF4-8550BF31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DD1-5DA7-4A81-ABD6-B6F85CA5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6C42E-8823-4E50-9924-EC746844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41CC-A7D0-45E4-BDCA-EFE52C56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BF26-99BA-4893-8EA7-65830453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440C-783B-4403-80EF-9364B3E3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692C1-FDE8-4247-9CB6-6D47FAF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FBA0B-1F7A-448B-9290-8A118FF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BAD2-79A1-4EBB-A240-52591F0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110AC-4760-457D-9187-AFF06806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33BB-BF9D-4094-973E-F7A00C4F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9C30-F1C8-4446-8DEF-09A9453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42D-B848-4666-8D39-9F6A94C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27A1-96C3-4E03-B38B-E389C54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5CC40-2508-4934-BA87-6785CE3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E1133-4FF5-40ED-8A48-3813931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DCA9-B3C3-4FB4-8506-399A0674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4705C-142D-4A14-8822-111F9EC2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BC9F-3AF8-4532-9C29-38E542B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81C35-7958-4ED3-B605-3595490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B0B6-60EB-4CFA-8EDD-F70AB54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E031B-534A-445C-8DCA-22E39346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35E1D-FFCD-4C49-851E-88CDCBD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060-5FB7-4CFC-AEB6-946CF3A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E767-B296-481D-9ECD-8D24F0D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17D7E-947E-484C-8DBC-0DF360D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8798F-04D1-40B1-93AD-9B12F99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7231D-8EED-4CD3-AF23-AD2CB77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700D-99F2-401D-954A-653A69AB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CA2A5-ED76-4F16-8B78-CB3C1B32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2901-B28F-4F9B-AA72-15C4A1DD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44EA-4E4B-44C4-B7C0-EFE9F462755F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9140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4680" y="4952880"/>
            <a:ext cx="9910800" cy="1911600"/>
            <a:chOff x="-4680" y="4952880"/>
            <a:chExt cx="991080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833120" y="4952880"/>
              <a:ext cx="8066880" cy="486720"/>
            </a:xfrm>
            <a:custGeom>
              <a:avLst/>
              <a:gdLst>
                <a:gd name="textAreaLeft" fmla="*/ 0 w 8066880"/>
                <a:gd name="textAreaRight" fmla="*/ 8067240 w 806688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720" y="5236560"/>
              <a:ext cx="9854280" cy="786240"/>
            </a:xfrm>
            <a:custGeom>
              <a:avLst/>
              <a:gdLst>
                <a:gd name="textAreaLeft" fmla="*/ 0 w 9854280"/>
                <a:gd name="textAreaRight" fmla="*/ 9854640 w 98542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1080" y="4992120"/>
              <a:ext cx="9905040" cy="1872360"/>
              <a:chOff x="1080" y="4992120"/>
              <a:chExt cx="990504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9905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8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9910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60A-601D-48CD-B90F-B8221B678FF6}" type="slidenum">
              <a:rPr b="0" lang="en-GB" sz="10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94020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738600" y="300528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EBC4-2294-4849-A523-FE54F6AF4872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CE3-43C1-4165-B70D-4F0668F29B0B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3D1-F5D2-4B41-BE4F-6D2543CDBCC2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2968-B00A-4D7A-A434-8010CD860047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A72-CDE3-4E54-88F8-CD036CD024F0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9387000" y="4987800"/>
            <a:ext cx="196560" cy="228600"/>
          </a:xfrm>
          <a:custGeom>
            <a:avLst/>
            <a:gdLst>
              <a:gd name="textAreaLeft" fmla="*/ 0 w 196560"/>
              <a:gd name="textAreaRight" fmla="*/ 196920 w 19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9183600" y="498780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5F9-0AC6-43B8-95AA-B42D452E88D7}" type="slidenum">
              <a:rPr b="0" lang="en-GB" sz="10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Diferentes niveles en la arquitectura de un comput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áquinas virtuale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Máquinas multinivel actua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Evolución histórica de las máquinas multiniv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F6B-4B6F-41B5-9FC1-B23EF94F0FEF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niveles 4 y superiores son utilizados por los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rogramadores de aplicacione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niveles inferiores están diseñados para ejecutar los intérpretes y traductores de los niveles superiores y son escritos por los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rogramadores de sistema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l ensamblador es el programa que lleva a cabo la traducción de un programa del nivel 4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A81-A40B-47E4-8A45-E1C5C335E370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lenguajes de alto nivel son más fáciles de utilizar que los lenguajes de niveles inferio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n utilizados por los programadores de aplicaci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traductores de programas en lenguaje de alto nivel pueden ser compiladores o intérpre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706-C051-4388-AE34-F6D774001FCA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3884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istoria de la arquitectura de computado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a arquitectura de los computadores ha ido evolucionando a lo largo de la histori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e divide la historia en distintas etapas llamadas generacion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FEAC-2CBB-4F61-9FC2-3FB4F6F6510D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3200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omputadores mecánicos o electromecánicos con muchas limitacion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ersonas destacad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laise Pascal construyó en 1642 una máquina calculadora para sumar y resta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arles Babbage construyó en 1834 de propósito general (almacén, taller y sección de E/S). Contrató a Ada para la programación de la máquin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iken construyó la Mark I en 1944, inspirado en los estudios de Babbag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C80-0082-44F1-943D-91C1BA40B17D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Válvula electrónica de vací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NIAC (1946): 18.000 válvulas, 30 toneladas, 1400 m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, 100 Kw, 5.000 sumas por segun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DSAC (1949): primer ordenador con programa almacena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UNIVAC: primer ordenador comercial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ersonas destacad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Jonh Von Neumann establece un modelo de la estructura de un ordenador (memoria,U.A.L., U. de control y U. de E/S). Crea la idea de computador con programa almacena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71C-0DD0-4818-9605-9072117B9EEB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programa en lenguaje máquina, propio de cada máquina y muy complica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desconocen los leng. de programació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 existe S.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realiza el programa cableado, se solicita hora para la máquina, se inserta el panel de conexiones en el computador para ejecutar el program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resolvían cálculos numéric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 principios de los 50 se mejoró el procedimiento con las tarjetas perforada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F2A-D97B-455E-8B05-DFED922B62CA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ransistor (Bardeen-Brattain, 1947). Ventajas: menor espacio, menor consumo, más barato y mayor fiabilidad. Esto hace disminuir el precio y tamaño de los computador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DP-1 de DIGIT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Lenguajes de alto nivel : FORTRAN, COBOL, ALGOL, PL/1. Se escribe el programa en papel, se perfora en tarjetas, se lleva al operador, se recoge el listado de impresor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stema de procesamiento por lotes (con S.O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67A9-A62F-4095-A748-D1283B000E15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8758-F543-4122-A294-61E093649ED5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3"/>
          <p:cNvSpPr/>
          <p:nvPr/>
        </p:nvSpPr>
        <p:spPr>
          <a:xfrm>
            <a:off x="419040" y="4425840"/>
            <a:ext cx="213372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720960" y="4425840"/>
            <a:ext cx="238140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7023240" y="4425840"/>
            <a:ext cx="23810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501480" y="3664080"/>
            <a:ext cx="73044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1657440" y="2978280"/>
            <a:ext cx="73008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720960" y="2901960"/>
            <a:ext cx="64800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629240" y="2901960"/>
            <a:ext cx="6476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5454720" y="2901960"/>
            <a:ext cx="6476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7188120" y="2901960"/>
            <a:ext cx="7304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8344080" y="3740040"/>
            <a:ext cx="8953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Oval 13"/>
          <p:cNvSpPr/>
          <p:nvPr/>
        </p:nvSpPr>
        <p:spPr>
          <a:xfrm>
            <a:off x="479412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Oval 14"/>
          <p:cNvSpPr/>
          <p:nvPr/>
        </p:nvSpPr>
        <p:spPr>
          <a:xfrm>
            <a:off x="479412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51181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6" name="Oval 16"/>
          <p:cNvSpPr/>
          <p:nvPr/>
        </p:nvSpPr>
        <p:spPr>
          <a:xfrm>
            <a:off x="561960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Oval 17"/>
          <p:cNvSpPr/>
          <p:nvPr/>
        </p:nvSpPr>
        <p:spPr>
          <a:xfrm>
            <a:off x="561960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8" name="Line 18"/>
          <p:cNvSpPr/>
          <p:nvPr/>
        </p:nvSpPr>
        <p:spPr>
          <a:xfrm>
            <a:off x="59436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388620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Oval 20"/>
          <p:cNvSpPr/>
          <p:nvPr/>
        </p:nvSpPr>
        <p:spPr>
          <a:xfrm>
            <a:off x="388620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1" name="Line 21"/>
          <p:cNvSpPr/>
          <p:nvPr/>
        </p:nvSpPr>
        <p:spPr>
          <a:xfrm>
            <a:off x="42102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2" name="Oval 22"/>
          <p:cNvSpPr/>
          <p:nvPr/>
        </p:nvSpPr>
        <p:spPr>
          <a:xfrm>
            <a:off x="190512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3" name="Oval 23"/>
          <p:cNvSpPr/>
          <p:nvPr/>
        </p:nvSpPr>
        <p:spPr>
          <a:xfrm>
            <a:off x="190512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4" name="Line 24"/>
          <p:cNvSpPr/>
          <p:nvPr/>
        </p:nvSpPr>
        <p:spPr>
          <a:xfrm>
            <a:off x="222876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Oval 25"/>
          <p:cNvSpPr/>
          <p:nvPr/>
        </p:nvSpPr>
        <p:spPr>
          <a:xfrm>
            <a:off x="743580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Oval 26"/>
          <p:cNvSpPr/>
          <p:nvPr/>
        </p:nvSpPr>
        <p:spPr>
          <a:xfrm>
            <a:off x="743580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7" name="Line 27"/>
          <p:cNvSpPr/>
          <p:nvPr/>
        </p:nvSpPr>
        <p:spPr>
          <a:xfrm>
            <a:off x="77598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Line 28"/>
          <p:cNvSpPr/>
          <p:nvPr/>
        </p:nvSpPr>
        <p:spPr>
          <a:xfrm>
            <a:off x="495360" y="40384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Line 29"/>
          <p:cNvSpPr/>
          <p:nvPr/>
        </p:nvSpPr>
        <p:spPr>
          <a:xfrm>
            <a:off x="66024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0" name="Line 30"/>
          <p:cNvSpPr/>
          <p:nvPr/>
        </p:nvSpPr>
        <p:spPr>
          <a:xfrm>
            <a:off x="82548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Line 31"/>
          <p:cNvSpPr/>
          <p:nvPr/>
        </p:nvSpPr>
        <p:spPr>
          <a:xfrm>
            <a:off x="9907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Line 32"/>
          <p:cNvSpPr/>
          <p:nvPr/>
        </p:nvSpPr>
        <p:spPr>
          <a:xfrm>
            <a:off x="115560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3" name="Line 33"/>
          <p:cNvSpPr/>
          <p:nvPr/>
        </p:nvSpPr>
        <p:spPr>
          <a:xfrm>
            <a:off x="8502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Line 34"/>
          <p:cNvSpPr/>
          <p:nvPr/>
        </p:nvSpPr>
        <p:spPr>
          <a:xfrm>
            <a:off x="8502480" y="41911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Line 35"/>
          <p:cNvSpPr/>
          <p:nvPr/>
        </p:nvSpPr>
        <p:spPr>
          <a:xfrm>
            <a:off x="8502480" y="4038480"/>
            <a:ext cx="5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Line 36"/>
          <p:cNvSpPr/>
          <p:nvPr/>
        </p:nvSpPr>
        <p:spPr>
          <a:xfrm flipV="1">
            <a:off x="9080640" y="3885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Line 37"/>
          <p:cNvSpPr/>
          <p:nvPr/>
        </p:nvSpPr>
        <p:spPr>
          <a:xfrm flipH="1">
            <a:off x="8502480" y="3886200"/>
            <a:ext cx="5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8" name="Line 38"/>
          <p:cNvSpPr/>
          <p:nvPr/>
        </p:nvSpPr>
        <p:spPr>
          <a:xfrm>
            <a:off x="8667720" y="342900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Arc 39"/>
          <p:cNvSpPr/>
          <p:nvPr/>
        </p:nvSpPr>
        <p:spPr>
          <a:xfrm>
            <a:off x="8502480" y="3429000"/>
            <a:ext cx="165240" cy="457200"/>
          </a:xfrm>
          <a:custGeom>
            <a:avLst/>
            <a:gdLst>
              <a:gd name="textAreaLeft" fmla="*/ 0 w 165240"/>
              <a:gd name="textAreaRight" fmla="*/ 165600 w 165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Arc 40"/>
          <p:cNvSpPr/>
          <p:nvPr/>
        </p:nvSpPr>
        <p:spPr>
          <a:xfrm>
            <a:off x="9080640" y="3429000"/>
            <a:ext cx="82440" cy="457200"/>
          </a:xfrm>
          <a:custGeom>
            <a:avLst/>
            <a:gdLst>
              <a:gd name="textAreaLeft" fmla="*/ 0 w 82440"/>
              <a:gd name="textAreaRight" fmla="*/ 82800 w 82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Rectangle 41"/>
          <p:cNvSpPr/>
          <p:nvPr/>
        </p:nvSpPr>
        <p:spPr>
          <a:xfrm>
            <a:off x="401760" y="2994120"/>
            <a:ext cx="101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lectora d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tarjeta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2" name="Rectangle 42"/>
          <p:cNvSpPr/>
          <p:nvPr/>
        </p:nvSpPr>
        <p:spPr>
          <a:xfrm>
            <a:off x="1420560" y="2536920"/>
            <a:ext cx="149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Unidad de cin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Rectangle 43"/>
          <p:cNvSpPr/>
          <p:nvPr/>
        </p:nvSpPr>
        <p:spPr>
          <a:xfrm>
            <a:off x="3974040" y="2003400"/>
            <a:ext cx="168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Unidades de cin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4" name="Rectangle 44"/>
          <p:cNvSpPr/>
          <p:nvPr/>
        </p:nvSpPr>
        <p:spPr>
          <a:xfrm>
            <a:off x="3619800" y="2384280"/>
            <a:ext cx="843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entrad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Rectangle 45"/>
          <p:cNvSpPr/>
          <p:nvPr/>
        </p:nvSpPr>
        <p:spPr>
          <a:xfrm>
            <a:off x="4527000" y="2384280"/>
            <a:ext cx="832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el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Rectangle 46"/>
          <p:cNvSpPr/>
          <p:nvPr/>
        </p:nvSpPr>
        <p:spPr>
          <a:xfrm>
            <a:off x="5446080" y="2384280"/>
            <a:ext cx="67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salid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7" name="Rectangle 47"/>
          <p:cNvSpPr/>
          <p:nvPr/>
        </p:nvSpPr>
        <p:spPr>
          <a:xfrm>
            <a:off x="6786360" y="2460600"/>
            <a:ext cx="149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Unidad de cin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8" name="Rectangle 48"/>
          <p:cNvSpPr/>
          <p:nvPr/>
        </p:nvSpPr>
        <p:spPr>
          <a:xfrm>
            <a:off x="8319960" y="2917800"/>
            <a:ext cx="125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Impresor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9" name="Rectangle 49"/>
          <p:cNvSpPr/>
          <p:nvPr/>
        </p:nvSpPr>
        <p:spPr>
          <a:xfrm>
            <a:off x="654480" y="4754520"/>
            <a:ext cx="168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1401 de IB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Rectangle 50"/>
          <p:cNvSpPr/>
          <p:nvPr/>
        </p:nvSpPr>
        <p:spPr>
          <a:xfrm>
            <a:off x="4038840" y="4754520"/>
            <a:ext cx="168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7094 de IB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1" name="Rectangle 51"/>
          <p:cNvSpPr/>
          <p:nvPr/>
        </p:nvSpPr>
        <p:spPr>
          <a:xfrm>
            <a:off x="7423560" y="4754520"/>
            <a:ext cx="168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1401 de IB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3116-094D-4DBE-A3DA-45DCA7486D86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831960" y="4502160"/>
            <a:ext cx="3619440" cy="20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5" name="Line 4"/>
          <p:cNvSpPr/>
          <p:nvPr/>
        </p:nvSpPr>
        <p:spPr>
          <a:xfrm>
            <a:off x="1238400" y="419112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4788000" y="4191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7" name="Line 6"/>
          <p:cNvSpPr/>
          <p:nvPr/>
        </p:nvSpPr>
        <p:spPr>
          <a:xfrm>
            <a:off x="123840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8" name="Line 7"/>
          <p:cNvSpPr/>
          <p:nvPr/>
        </p:nvSpPr>
        <p:spPr>
          <a:xfrm flipH="1">
            <a:off x="4457520" y="6324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9" name="Line 8"/>
          <p:cNvSpPr/>
          <p:nvPr/>
        </p:nvSpPr>
        <p:spPr>
          <a:xfrm>
            <a:off x="1568520" y="388620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511812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1" name="Line 10"/>
          <p:cNvSpPr/>
          <p:nvPr/>
        </p:nvSpPr>
        <p:spPr>
          <a:xfrm>
            <a:off x="1568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2" name="Line 11"/>
          <p:cNvSpPr/>
          <p:nvPr/>
        </p:nvSpPr>
        <p:spPr>
          <a:xfrm flipH="1">
            <a:off x="4787640" y="601992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Line 12"/>
          <p:cNvSpPr/>
          <p:nvPr/>
        </p:nvSpPr>
        <p:spPr>
          <a:xfrm>
            <a:off x="189864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4" name="Line 13"/>
          <p:cNvSpPr/>
          <p:nvPr/>
        </p:nvSpPr>
        <p:spPr>
          <a:xfrm>
            <a:off x="1898640" y="358128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Line 14"/>
          <p:cNvSpPr/>
          <p:nvPr/>
        </p:nvSpPr>
        <p:spPr>
          <a:xfrm>
            <a:off x="544824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Line 15"/>
          <p:cNvSpPr/>
          <p:nvPr/>
        </p:nvSpPr>
        <p:spPr>
          <a:xfrm flipH="1">
            <a:off x="5117760" y="57150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Line 16"/>
          <p:cNvSpPr/>
          <p:nvPr/>
        </p:nvSpPr>
        <p:spPr>
          <a:xfrm>
            <a:off x="222876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8" name="Line 17"/>
          <p:cNvSpPr/>
          <p:nvPr/>
        </p:nvSpPr>
        <p:spPr>
          <a:xfrm>
            <a:off x="2228760" y="327672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Line 18"/>
          <p:cNvSpPr/>
          <p:nvPr/>
        </p:nvSpPr>
        <p:spPr>
          <a:xfrm>
            <a:off x="5778360" y="32767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Line 19"/>
          <p:cNvSpPr/>
          <p:nvPr/>
        </p:nvSpPr>
        <p:spPr>
          <a:xfrm flipH="1">
            <a:off x="5447880" y="5410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Line 20"/>
          <p:cNvSpPr/>
          <p:nvPr/>
        </p:nvSpPr>
        <p:spPr>
          <a:xfrm>
            <a:off x="25588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2" name="Line 21"/>
          <p:cNvSpPr/>
          <p:nvPr/>
        </p:nvSpPr>
        <p:spPr>
          <a:xfrm>
            <a:off x="2558880" y="2971800"/>
            <a:ext cx="354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3" name="Line 22"/>
          <p:cNvSpPr/>
          <p:nvPr/>
        </p:nvSpPr>
        <p:spPr>
          <a:xfrm>
            <a:off x="6108840" y="29718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4" name="Line 23"/>
          <p:cNvSpPr/>
          <p:nvPr/>
        </p:nvSpPr>
        <p:spPr>
          <a:xfrm flipH="1">
            <a:off x="5778360" y="5105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5" name="Line 24"/>
          <p:cNvSpPr/>
          <p:nvPr/>
        </p:nvSpPr>
        <p:spPr>
          <a:xfrm>
            <a:off x="28893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6" name="Line 25"/>
          <p:cNvSpPr/>
          <p:nvPr/>
        </p:nvSpPr>
        <p:spPr>
          <a:xfrm>
            <a:off x="2889360" y="266688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7" name="Line 26"/>
          <p:cNvSpPr/>
          <p:nvPr/>
        </p:nvSpPr>
        <p:spPr>
          <a:xfrm>
            <a:off x="6438960" y="2666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Line 27"/>
          <p:cNvSpPr/>
          <p:nvPr/>
        </p:nvSpPr>
        <p:spPr>
          <a:xfrm flipH="1">
            <a:off x="6108480" y="48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Line 28"/>
          <p:cNvSpPr/>
          <p:nvPr/>
        </p:nvSpPr>
        <p:spPr>
          <a:xfrm>
            <a:off x="32194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Line 29"/>
          <p:cNvSpPr/>
          <p:nvPr/>
        </p:nvSpPr>
        <p:spPr>
          <a:xfrm>
            <a:off x="3219480" y="236232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Line 30"/>
          <p:cNvSpPr/>
          <p:nvPr/>
        </p:nvSpPr>
        <p:spPr>
          <a:xfrm flipH="1">
            <a:off x="6438600" y="44956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2" name="Line 31"/>
          <p:cNvSpPr/>
          <p:nvPr/>
        </p:nvSpPr>
        <p:spPr>
          <a:xfrm>
            <a:off x="6769080" y="23623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3" name="Line 32"/>
          <p:cNvSpPr/>
          <p:nvPr/>
        </p:nvSpPr>
        <p:spPr>
          <a:xfrm>
            <a:off x="354960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Line 33"/>
          <p:cNvSpPr/>
          <p:nvPr/>
        </p:nvSpPr>
        <p:spPr>
          <a:xfrm>
            <a:off x="3549600" y="205740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5" name="Line 34"/>
          <p:cNvSpPr/>
          <p:nvPr/>
        </p:nvSpPr>
        <p:spPr>
          <a:xfrm>
            <a:off x="7099200" y="20574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6" name="Line 35"/>
          <p:cNvSpPr/>
          <p:nvPr/>
        </p:nvSpPr>
        <p:spPr>
          <a:xfrm flipH="1">
            <a:off x="6768720" y="419112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847440" y="4548240"/>
            <a:ext cx="207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JOB informació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1400760" y="4167360"/>
            <a:ext cx="134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FORTRA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2356560" y="325296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LOA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2585520" y="2948040"/>
            <a:ext cx="79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RU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3575880" y="20336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EN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Rectangle 41"/>
          <p:cNvSpPr/>
          <p:nvPr/>
        </p:nvSpPr>
        <p:spPr>
          <a:xfrm>
            <a:off x="419760" y="2185920"/>
            <a:ext cx="23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Datos del program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3" name="Line 42"/>
          <p:cNvSpPr/>
          <p:nvPr/>
        </p:nvSpPr>
        <p:spPr>
          <a:xfrm>
            <a:off x="2476440" y="2438280"/>
            <a:ext cx="660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4" name="Rectangle 43"/>
          <p:cNvSpPr/>
          <p:nvPr/>
        </p:nvSpPr>
        <p:spPr>
          <a:xfrm>
            <a:off x="76680" y="3176640"/>
            <a:ext cx="12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Fortra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Line 44"/>
          <p:cNvSpPr/>
          <p:nvPr/>
        </p:nvSpPr>
        <p:spPr>
          <a:xfrm>
            <a:off x="1073160" y="3581280"/>
            <a:ext cx="660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integrados SSI (hasta 100) y MSI (100-3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BM sistema 360 y PDP-8 (DIGITAL)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Lenguajes de alto nivel BASIC y PASC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.O con multiprogramación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División de la memoria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Procedimientos de spooling (operación simultánea de periféricos conectados en línea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Tiempo compartido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C165-9F88-4D39-9FAD-6519519130B1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n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computador digital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 una máquina que puede resolver problemas ejecutando ciertas instrucci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n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rograma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es una secuencia de instrucci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circuitos electrónicos de cada computadora reconocen un conjunto limitado de instrucciones muy simp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Lenguaje máquina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 el conjunto de instrucciones básicas de una computado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3450-C3CF-45E3-A210-5DF9ECA5DA44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91566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integra la UCP en un sólo chip: el microprocesado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integrados LSI (3000-30000) y VLSI (más de 30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BM PC (1981), IBM PC XT (1982), IBM PC AT (1984), IBM PS/2 (1987), VAX (DIGITAL,1980), CRAY X-MP (1983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oftware fácil de usa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stemas operativos MS-DOS, UNIX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stemas operativos de red y sistemas operativos distribuid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8550-58A7-430F-84CA-86CCF6CDB18C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con más de un millón de component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uevas arquitecturas: paralelism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ecnología óptic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ONNECTION MACHINE, máquina masivamente paralel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nteligencia artificial y sistemas expert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8B07-2B95-4CD2-B831-43CE839000CB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4268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os primeros computadores digitales (años 40) sólo tenían 2 niveles (convencional y lógica digit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os circuitos digitales eran voluminosos, poco confiables y difíciles de construi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l nivel de microprogramación se añadió par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mplificar la electrónica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facilitar la escritura de compilador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jecutar los programas más rápidamente (ROM más rápida que la RAM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n los 70 estaba plenamente difundi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n los 50 aparecieron los ensambladores y compilador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n los 60 aparece el sistema operativ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ED0-5157-4D7E-B352-317A8ECB6AC3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uanto más complicado el lenguaje máquina, más grande, complicado y lento el microprograma (ya que necesitan procedimientos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a velocidad de la memoria RAM se aumentó con el avance de la tecnología (memorias de semiconductores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s difícil escribir, depurar y mantener el microcódig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principios de los 80 se elimina el nivel de microprogramación para dar paso a las máquinas RIS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214B-56DF-4070-A4D8-44871F363F64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tilizar lenguaje máquina es difícil y tedios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lució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a L1 el lenguaje máquin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y L2 un lenguaje más fácil de utiliza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41F-A9DE-411B-A46C-643A83FA9A6D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4"/>
          <p:cNvSpPr/>
          <p:nvPr/>
        </p:nvSpPr>
        <p:spPr>
          <a:xfrm>
            <a:off x="2731680" y="4098960"/>
            <a:ext cx="24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programa en L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2731680" y="5775480"/>
            <a:ext cx="24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programa en L1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638520" y="4578480"/>
            <a:ext cx="482760" cy="1206360"/>
          </a:xfrm>
          <a:prstGeom prst="downArrow">
            <a:avLst>
              <a:gd name="adj1" fmla="val 50000"/>
              <a:gd name="adj2" fmla="val 124956"/>
            </a:avLst>
          </a:prstGeom>
          <a:solidFill>
            <a:srgbClr val="2da2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5020200" y="4632480"/>
            <a:ext cx="380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compilación (compilador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968000" y="5241960"/>
            <a:ext cx="39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interpretación (intérpret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3638520" y="4578480"/>
            <a:ext cx="482760" cy="1206360"/>
          </a:xfrm>
          <a:prstGeom prst="downArrow">
            <a:avLst>
              <a:gd name="adj1" fmla="val 50000"/>
              <a:gd name="adj2" fmla="val 124956"/>
            </a:avLst>
          </a:prstGeom>
          <a:solidFill>
            <a:srgbClr val="2da2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 puede imaginar la existencia de una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máquina virtual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uyo lenguaje máquina es L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 pueden crear L3, L4... cada uno más fácil de utiliz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25C-8E47-4B2C-BA0A-44AE0AF48CAC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4965840" y="37861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4960440" y="4548240"/>
            <a:ext cx="8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3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960440" y="5157720"/>
            <a:ext cx="8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2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4960440" y="5767560"/>
            <a:ext cx="8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1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404496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04496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4044960" y="40384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4044960" y="41911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4044960" y="41911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3398400" y="38019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n  con  L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3556800" y="4640400"/>
            <a:ext cx="89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3  con   L3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3556080" y="5249880"/>
            <a:ext cx="85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2  con  L2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3556080" y="5859360"/>
            <a:ext cx="85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1  con  L1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3789000" y="4022640"/>
            <a:ext cx="34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3870000" y="4175280"/>
            <a:ext cx="2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3390840" y="3816360"/>
            <a:ext cx="1308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3390840" y="4654440"/>
            <a:ext cx="1308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Rectangle 21"/>
          <p:cNvSpPr/>
          <p:nvPr/>
        </p:nvSpPr>
        <p:spPr>
          <a:xfrm>
            <a:off x="3390840" y="5264280"/>
            <a:ext cx="130824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3390840" y="5873760"/>
            <a:ext cx="1308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6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C623-62D8-4E5A-AE34-AF25AB9BE5CA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915660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"/>
          <p:cNvSpPr/>
          <p:nvPr/>
        </p:nvSpPr>
        <p:spPr>
          <a:xfrm>
            <a:off x="51181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La mayoría de las máquinas actuales constan de 6 nivel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Los microprogramas son directamente ejecutados por el hardwar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739880" y="221616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1739880" y="3054240"/>
            <a:ext cx="1555920" cy="292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739880" y="381636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739880" y="457848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1739880" y="5340240"/>
            <a:ext cx="1555920" cy="292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1739880" y="610236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1733400" y="22860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Lenguajes de alto nive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1733400" y="3124080"/>
            <a:ext cx="206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Lenguaje ensamblad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1898640" y="3886200"/>
            <a:ext cx="156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Sistema operativo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1733400" y="4648320"/>
            <a:ext cx="181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áquina convencion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1816200" y="5410080"/>
            <a:ext cx="156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icroprogramació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1898640" y="6172200"/>
            <a:ext cx="156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Lógica digit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Line 16"/>
          <p:cNvSpPr/>
          <p:nvPr/>
        </p:nvSpPr>
        <p:spPr>
          <a:xfrm>
            <a:off x="2394000" y="2514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239400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2394000" y="4114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2394000" y="48769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2394000" y="563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907920" y="220968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07920" y="304812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07920" y="380988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07920" y="457200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07920" y="5334120"/>
            <a:ext cx="74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07920" y="609588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2806560" y="2590920"/>
            <a:ext cx="214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Traducción (compilado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Rectangle 28"/>
          <p:cNvSpPr/>
          <p:nvPr/>
        </p:nvSpPr>
        <p:spPr>
          <a:xfrm>
            <a:off x="2806560" y="3429000"/>
            <a:ext cx="222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Traducción(ensamblado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5" name="Rectangle 29"/>
          <p:cNvSpPr/>
          <p:nvPr/>
        </p:nvSpPr>
        <p:spPr>
          <a:xfrm>
            <a:off x="2558880" y="4191120"/>
            <a:ext cx="2806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Interpretación (sistema operativo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6" name="Rectangle 30"/>
          <p:cNvSpPr/>
          <p:nvPr/>
        </p:nvSpPr>
        <p:spPr>
          <a:xfrm>
            <a:off x="2724120" y="495288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Interpretación (microprogram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7" name="Rectangle 31"/>
          <p:cNvSpPr/>
          <p:nvPr/>
        </p:nvSpPr>
        <p:spPr>
          <a:xfrm>
            <a:off x="2641680" y="5715000"/>
            <a:ext cx="214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Ejecutados directamen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 el hardware de la máqui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l nivel inferior sería el nivel de dispositiv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n este nive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uertas lógic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integrad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combinaciona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aritmétic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loj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mori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icroprocesador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s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BD2-9085-41D3-B578-3BE8DC7B0155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xiste un programa llamado microprogra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función del microprograma es interpretar las instrucciones del nivel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n algunas máquinas no existe el nivel de microprograma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389-7F47-463C-83A1-33BC4FE7AE03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91566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ada fabricante publica el “Manual de referencia del lenguaje máquina” para cada uno de los computado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s instrucciones del nivel de máquina las interpreta el microprogra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n las máquinas en las que no existe el nivel de microprogramación, las instrucciones del nivel de máquina son realizadas directamente por los circuitos electrónic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AEB1-92DD-4E1C-B790-2E046DD00474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91566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mayoría de las instrucciones de este nivel están también en el nivel 2 pero además tiene un nuevo conjunto de instrucciones, una organización diferente de la memoria, posibilidad de ejecutar 2 o más programas 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s nuevas instrucciones las interpreta el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sistema operativo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s que son idénticas a las del nivel 2 las lleva a cabo el microprogra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3E6F-2041-44FC-B9A2-639735D21682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6T10:49:54Z</dcterms:created>
  <dc:creator>TELEMATICA</dc:creator>
  <dc:description/>
  <cp:keywords/>
  <dc:language>en-US</dc:language>
  <cp:lastModifiedBy>Rossy</cp:lastModifiedBy>
  <cp:lastPrinted>2003-09-30T08:21:08Z</cp:lastPrinted>
  <dcterms:modified xsi:type="dcterms:W3CDTF">2011-02-01T16:28:03Z</dcterms:modified>
  <cp:revision>20</cp:revision>
  <dc:subject/>
  <dc:title>TEMA 1. INTRODUCCIÓN</dc:title>
</cp:coreProperties>
</file>